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26A-983C-4411-8F34-B3A55F5D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041-0AA3-4401-AB5F-754F191E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how tree is just calculating Cout; similar trees exist for each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ogic depth of each adder (4 for ripple, 2 for c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1000-DA48-4C93-94EF-360C196C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F45B2-1FC5-48EB-A683-EA3D4A06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B513A-46A2-448A-856F-618B613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581EC-DC26-4C58-B13D-B8497A54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4E83B-30E3-440F-A44C-B2D49D4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B89E3-CF1D-4C3D-926A-BDFE4EE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D7469-2AC4-4921-9EEB-4BF4A71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FEC6D-4F76-41AF-80B5-11C2C9E8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64E52-7452-4905-B715-8E1C004C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B06DF-3524-4E68-9633-C03FE6E5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0F969-F9CD-44A1-8CB1-C973D93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68BC7-D135-49F6-A5F3-6172FDD6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38CE2-1375-4692-BDBA-4F969F48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201BD-1058-49FF-BE70-E9E168B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4336E-2044-4BB5-ACA2-77B5733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D62B9-0BEA-4B01-BB6F-FFBAA010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2122F2-0AD8-440D-8917-52E5771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B2998-BCBA-460B-8BEA-C6D91A79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37AED-DFA5-44F7-BBAD-9EE667E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8A1A0-1340-40D4-8B5E-AC00EE5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D9287-27EA-4A04-A181-B17B8720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F5F5A-9320-4088-A2DB-9C85EFA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665B50-22F7-4315-87AE-95461475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D5CC39-B95E-4BB3-BB53-621F30D8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D69C65-5262-4A85-A5A2-3B2ED1C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176B25-B5D2-4E19-8E1D-DE83336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799B39-E603-4AC4-9275-24F931F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2669BB-1F18-4D87-AF1A-64E740E3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DCF6B1-0B5A-465D-9AD7-BC8C780A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A0889B-0DFE-4D69-8272-1001A7C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606FF-3BF9-43F4-B42B-13B11B4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4E04A-F1BA-451C-848E-5CEEBF9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5A7873-D4A9-4365-BAB1-8B345239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8308E0-69CF-49EA-A933-273896A7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FC0279-568C-4099-B83B-F54FDEBE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3A3252-2422-4F1E-BF32-FBB207A1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4F991-E0C7-468B-8461-2B9BC36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66C5B-3941-49E4-9401-1075897E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EAA86-0651-486E-AD12-1710DB7D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4BB88-2E4E-44AE-B025-C580E95D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07E6D0-1D6D-47F4-83D9-D4338B13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C92108-87F8-440F-A559-B2A36885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8106D6-8DEC-4E0F-8D79-16C0F226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5DD6A9-ED62-4CA1-A62D-2229A68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3B768-B986-4794-8587-564801C6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4A5A86-54E9-4C3D-B632-DF60F757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7726-3742-4863-B190-ED6749CA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48CA6-BE52-42E0-AB96-F22B470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8CED-A7FF-489C-9E26-67C2BD6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D5F6-696A-4FD5-839D-ECC0222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DEE9-233D-4843-8D62-6CF28AB2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AFB7-AF02-4EC1-A90D-5E5663D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E1AC5-7D30-4471-8048-734E7A7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27FC-E39F-485D-8FFD-3DEF4AD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0971-FF78-484F-91EF-3E1D5C7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3E9B-F57F-49E4-B7BD-45F9A06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83FAF-5146-4FFC-983E-71AAFC5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E3B3-5A50-46B0-B65B-E2DFFE24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5C78F-793E-471B-A6D7-2AEC40B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97293-140E-4FB7-A7CE-AA1CE59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85A74-2DBA-4008-9CBB-5376A3A7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757D4-D391-4755-BC86-02BE9317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6DF85-A6C3-48FF-B38D-31B0B398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26FB2-78DF-45D6-8EAE-EA7DC3B3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0217A-5C9E-4EC7-8760-5CD5479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92E5A-6AF9-4EA1-9E83-0A6605B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09DE3-66AC-41DD-A97B-E980581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97FA0-EAE0-469E-9FD5-1B72A9E0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7C8BA-8028-44EF-A294-DA595C1A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E2532-D644-46D8-9872-D9A0013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BCB1A-B5BA-480B-9D76-3311C379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0C52E-B558-43D9-9FFE-DC0F5A2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0D465-877A-41D8-AC82-07B8E87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EF21B-36FE-4795-A0BA-1EFDA75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B2E84-C2A3-4BDB-BD40-664FCEC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B0BF8-8F24-4F8E-AF6A-62A4A3E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D1C62-0693-40C5-99FF-92F95B51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03B07-0ECF-41C1-903E-2AD8E2E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BED48-D422-4B25-91E1-35A00E0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8F4BE-E327-4D5C-9CB8-0FB2715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CA07D-4D58-4D58-B5A8-E67FA433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9C8F3-0053-4F4C-A2A6-616115AC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DF077-B239-400C-9E86-1DD48FE1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C3571-3895-4B56-9A2D-4CEAD66A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DD15F-EE36-4253-A55B-01032590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57429-4ED3-4A7F-B4BF-C20566A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56EF8-3729-458E-9E14-7BB9920A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E3DD8-D05D-447A-8989-2A6C0AE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843E6-314B-4509-B7FF-E96568B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3AE52-FB46-4102-8F54-137D11B8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02290-B27B-40DE-9202-8B81A5F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517F3-710C-4985-B13C-617BA40B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06F8D-F8F1-49F3-820F-16509C2E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76FBE-4AAB-42E4-ABF1-7C9026B2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AD9DF-11F7-43FD-8015-3B24E488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15969-A962-47A9-AA18-0E7974F1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A31A1-C74A-4216-977E-BDCB353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BC4AF-4286-4A3F-914C-E0E5E7CA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CC513-D937-4C8D-817A-6ABDE0D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CA05E-7CB5-40A6-B266-2D018CDA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D584B-4C78-4CB4-BFC5-357C398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DA445-3377-4799-ACAB-FBA6E845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1CEA4-8DA8-4085-BC6E-850AB18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B2306-6FBC-4312-AF6A-3D8A563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E601F-958C-444A-971A-91D6F6BD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7246D-87A0-4429-9577-65202AC7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F2C3D-7780-46EC-AE86-444A5BD7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D837A-B23B-4BBA-9CB5-1B13F2DF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C5B3F-746D-464F-880D-F80822C4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3B6A6-F347-470D-995B-FC9AFFAD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D496D-0463-4915-B6DC-A353E104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79237-3295-4994-94E9-B33608A7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C47A8-4E38-4114-8548-8BF9EDC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CFFCA-FBBB-447C-ADAA-4AA53F5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FE053-1F59-43FD-81C1-9ACDAA2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FF78B-5BA2-4090-A34C-53C7C8F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4B1ED-00D1-4A16-AF95-9A354D0A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98B4E-E34E-4134-8341-DA05104F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C2F64-4B8C-4A5B-BB13-A4AA75CD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F7660-DEE0-48BC-907F-9F0A8304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7A975-63FB-43F1-A396-37A6E38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408-9F8B-442D-A486-91AC6A559F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45D-AFDA-44D6-AF07-8C34AB7EB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759-9309-4ABF-ACF3-4BE3B8174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PLP Logo with Transparency.png"/>
          <p:cNvPicPr/>
          <p:nvPr/>
        </p:nvPicPr>
        <p:blipFill>
          <a:blip r:embed="rId2"/>
          <a:stretch/>
        </p:blipFill>
        <p:spPr>
          <a:xfrm>
            <a:off x="7086600" y="5651640"/>
            <a:ext cx="205740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0" y="5743440"/>
            <a:ext cx="2209680" cy="1114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FF0-A87F-4B24-B2B4-98FBA033C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27E-D083-4CA4-8F94-862D45CB10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F1B-A464-47F3-92F4-188304011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5F8-CCDE-4236-8C24-2CB054E2AE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A3DE-1AF3-4141-959E-8EEDED917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621B-3EBE-44EC-8804-20FF80C75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B2F-F0E7-4CF0-A387-F8414696C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Garamond"/>
              </a:rPr>
              <a:t>Adding the Superset Adder to the DesignWare IP Library</a:t>
            </a:r>
            <a:endParaRPr b="0" lang="en-US" sz="50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o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rea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24E-8DAB-4D20-88D3-DFB3FA1D1C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Chart 6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lay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A3D0-6510-43EB-B7DD-D820CA5962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Chart 4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 Co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704" name="Picture 4" descr="C:\Users\Stevo Bailey\Downloads\slcode.png"/>
          <p:cNvPicPr/>
          <p:nvPr/>
        </p:nvPicPr>
        <p:blipFill>
          <a:blip r:embed="rId1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705" name="TextBox 4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C:\Users\Stevo Bailey\Downloads\script (1).png"/>
          <p:cNvPicPr/>
          <p:nvPr/>
        </p:nvPicPr>
        <p:blipFill>
          <a:blip r:embed="rId2"/>
          <a:stretch/>
        </p:blipFill>
        <p:spPr>
          <a:xfrm>
            <a:off x="4724280" y="990720"/>
            <a:ext cx="4100760" cy="25146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6"/>
          <p:cNvSpPr/>
          <p:nvPr/>
        </p:nvSpPr>
        <p:spPr>
          <a:xfrm>
            <a:off x="4724280" y="3505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B33-D53E-4623-BD24-E42D7098DB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C7AD-3CA4-4705-9EDF-398B66F4BF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Users\Stevo Bailey\Downloads\schematic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AA4-9004-46AD-9594-20FC0EA230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C:\Users\Stevo Bailey\Downloads\schematic_close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6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urrent Issu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get VCS to simulate my adders when they include library compon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7133-37DB-4ACF-97D1-5A6B8A0337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3"/>
          <p:cNvSpPr/>
          <p:nvPr/>
        </p:nvSpPr>
        <p:spPr>
          <a:xfrm>
            <a:off x="1905120" y="2209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368-42D5-4275-9F79-49F77242E7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scaling exacerbates variation and reliabil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circuits have redundancy and error detection/correction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rises for robust arithmetic datapa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ndancy, re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29A-BFA1-46A3-B2B7-F021F1B1B7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ddition in Circuit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>
            <a:off x="57150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61722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6553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2578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6095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>
            <a:off x="70102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4"/>
          <p:cNvSpPr/>
          <p:nvPr/>
        </p:nvSpPr>
        <p:spPr>
          <a:xfrm>
            <a:off x="73915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5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6"/>
          <p:cNvSpPr/>
          <p:nvPr/>
        </p:nvSpPr>
        <p:spPr>
          <a:xfrm>
            <a:off x="82296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6934320" y="16765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77724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9"/>
          <p:cNvSpPr/>
          <p:nvPr/>
        </p:nvSpPr>
        <p:spPr>
          <a:xfrm>
            <a:off x="51814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60199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1"/>
          <p:cNvSpPr/>
          <p:nvPr/>
        </p:nvSpPr>
        <p:spPr>
          <a:xfrm>
            <a:off x="68580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2"/>
          <p:cNvSpPr/>
          <p:nvPr/>
        </p:nvSpPr>
        <p:spPr>
          <a:xfrm>
            <a:off x="76960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3"/>
          <p:cNvSpPr/>
          <p:nvPr/>
        </p:nvSpPr>
        <p:spPr>
          <a:xfrm>
            <a:off x="53341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4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25"/>
          <p:cNvSpPr/>
          <p:nvPr/>
        </p:nvSpPr>
        <p:spPr>
          <a:xfrm>
            <a:off x="61722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6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7"/>
          <p:cNvSpPr/>
          <p:nvPr/>
        </p:nvSpPr>
        <p:spPr>
          <a:xfrm>
            <a:off x="70102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28"/>
          <p:cNvSpPr/>
          <p:nvPr/>
        </p:nvSpPr>
        <p:spPr>
          <a:xfrm>
            <a:off x="73915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9"/>
          <p:cNvSpPr/>
          <p:nvPr/>
        </p:nvSpPr>
        <p:spPr>
          <a:xfrm>
            <a:off x="78487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30"/>
          <p:cNvSpPr/>
          <p:nvPr/>
        </p:nvSpPr>
        <p:spPr>
          <a:xfrm>
            <a:off x="8229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31"/>
          <p:cNvSpPr/>
          <p:nvPr/>
        </p:nvSpPr>
        <p:spPr>
          <a:xfrm>
            <a:off x="51814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2"/>
          <p:cNvSpPr/>
          <p:nvPr/>
        </p:nvSpPr>
        <p:spPr>
          <a:xfrm>
            <a:off x="601992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3"/>
          <p:cNvSpPr/>
          <p:nvPr/>
        </p:nvSpPr>
        <p:spPr>
          <a:xfrm>
            <a:off x="68580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4"/>
          <p:cNvSpPr/>
          <p:nvPr/>
        </p:nvSpPr>
        <p:spPr>
          <a:xfrm>
            <a:off x="76960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5"/>
          <p:cNvSpPr/>
          <p:nvPr/>
        </p:nvSpPr>
        <p:spPr>
          <a:xfrm>
            <a:off x="53341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36"/>
          <p:cNvSpPr/>
          <p:nvPr/>
        </p:nvSpPr>
        <p:spPr>
          <a:xfrm>
            <a:off x="57150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37"/>
          <p:cNvSpPr/>
          <p:nvPr/>
        </p:nvSpPr>
        <p:spPr>
          <a:xfrm>
            <a:off x="61722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38"/>
          <p:cNvSpPr/>
          <p:nvPr/>
        </p:nvSpPr>
        <p:spPr>
          <a:xfrm>
            <a:off x="65530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9"/>
          <p:cNvSpPr/>
          <p:nvPr/>
        </p:nvSpPr>
        <p:spPr>
          <a:xfrm>
            <a:off x="70102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40"/>
          <p:cNvSpPr/>
          <p:nvPr/>
        </p:nvSpPr>
        <p:spPr>
          <a:xfrm>
            <a:off x="7391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1"/>
          <p:cNvSpPr/>
          <p:nvPr/>
        </p:nvSpPr>
        <p:spPr>
          <a:xfrm>
            <a:off x="78487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2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3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693432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17220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46"/>
          <p:cNvSpPr/>
          <p:nvPr/>
        </p:nvSpPr>
        <p:spPr>
          <a:xfrm>
            <a:off x="65530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47"/>
          <p:cNvSpPr/>
          <p:nvPr/>
        </p:nvSpPr>
        <p:spPr>
          <a:xfrm>
            <a:off x="70102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48"/>
          <p:cNvSpPr/>
          <p:nvPr/>
        </p:nvSpPr>
        <p:spPr>
          <a:xfrm>
            <a:off x="739152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9"/>
          <p:cNvSpPr/>
          <p:nvPr/>
        </p:nvSpPr>
        <p:spPr>
          <a:xfrm>
            <a:off x="6095880" y="3733920"/>
            <a:ext cx="137160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50"/>
          <p:cNvSpPr/>
          <p:nvPr/>
        </p:nvSpPr>
        <p:spPr>
          <a:xfrm>
            <a:off x="617220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51"/>
          <p:cNvSpPr/>
          <p:nvPr/>
        </p:nvSpPr>
        <p:spPr>
          <a:xfrm>
            <a:off x="65530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52"/>
          <p:cNvSpPr/>
          <p:nvPr/>
        </p:nvSpPr>
        <p:spPr>
          <a:xfrm>
            <a:off x="70102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53"/>
          <p:cNvSpPr/>
          <p:nvPr/>
        </p:nvSpPr>
        <p:spPr>
          <a:xfrm>
            <a:off x="739152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4"/>
          <p:cNvSpPr/>
          <p:nvPr/>
        </p:nvSpPr>
        <p:spPr>
          <a:xfrm>
            <a:off x="594360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5"/>
          <p:cNvSpPr/>
          <p:nvPr/>
        </p:nvSpPr>
        <p:spPr>
          <a:xfrm>
            <a:off x="6781680" y="3124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6"/>
          <p:cNvSpPr/>
          <p:nvPr/>
        </p:nvSpPr>
        <p:spPr>
          <a:xfrm>
            <a:off x="65530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7"/>
          <p:cNvSpPr/>
          <p:nvPr/>
        </p:nvSpPr>
        <p:spPr>
          <a:xfrm>
            <a:off x="70102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8"/>
          <p:cNvSpPr/>
          <p:nvPr/>
        </p:nvSpPr>
        <p:spPr>
          <a:xfrm>
            <a:off x="6324480" y="4191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9"/>
          <p:cNvSpPr/>
          <p:nvPr/>
        </p:nvSpPr>
        <p:spPr>
          <a:xfrm>
            <a:off x="8305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60"/>
          <p:cNvSpPr/>
          <p:nvPr/>
        </p:nvSpPr>
        <p:spPr>
          <a:xfrm>
            <a:off x="77724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A (Prefix)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61"/>
          <p:cNvCxnSpPr/>
          <p:nvPr/>
        </p:nvCxnSpPr>
        <p:spPr>
          <a:xfrm flipV="1">
            <a:off x="8000640" y="3047400"/>
            <a:ext cx="1080" cy="68652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604" name="Straight Arrow Connector 62"/>
          <p:cNvCxnSpPr/>
          <p:nvPr/>
        </p:nvCxnSpPr>
        <p:spPr>
          <a:xfrm flipH="1">
            <a:off x="7543080" y="3885840"/>
            <a:ext cx="305640" cy="108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605" name="TextBox 63"/>
          <p:cNvSpPr/>
          <p:nvPr/>
        </p:nvSpPr>
        <p:spPr>
          <a:xfrm>
            <a:off x="457200" y="563868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64"/>
          <p:cNvSpPr/>
          <p:nvPr/>
        </p:nvSpPr>
        <p:spPr>
          <a:xfrm>
            <a:off x="1066680" y="534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x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5"/>
          <p:cNvSpPr/>
          <p:nvPr/>
        </p:nvSpPr>
        <p:spPr>
          <a:xfrm>
            <a:off x="60948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66"/>
          <p:cNvSpPr/>
          <p:nvPr/>
        </p:nvSpPr>
        <p:spPr>
          <a:xfrm>
            <a:off x="99072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67"/>
          <p:cNvSpPr/>
          <p:nvPr/>
        </p:nvSpPr>
        <p:spPr>
          <a:xfrm>
            <a:off x="144792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68"/>
          <p:cNvSpPr/>
          <p:nvPr/>
        </p:nvSpPr>
        <p:spPr>
          <a:xfrm>
            <a:off x="182880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9"/>
          <p:cNvSpPr/>
          <p:nvPr/>
        </p:nvSpPr>
        <p:spPr>
          <a:xfrm>
            <a:off x="533520" y="32767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0"/>
          <p:cNvSpPr/>
          <p:nvPr/>
        </p:nvSpPr>
        <p:spPr>
          <a:xfrm>
            <a:off x="1371600" y="274320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71"/>
          <p:cNvSpPr/>
          <p:nvPr/>
        </p:nvSpPr>
        <p:spPr>
          <a:xfrm>
            <a:off x="228600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72"/>
          <p:cNvSpPr/>
          <p:nvPr/>
        </p:nvSpPr>
        <p:spPr>
          <a:xfrm>
            <a:off x="266688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73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74"/>
          <p:cNvSpPr/>
          <p:nvPr/>
        </p:nvSpPr>
        <p:spPr>
          <a:xfrm>
            <a:off x="35053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5"/>
          <p:cNvSpPr/>
          <p:nvPr/>
        </p:nvSpPr>
        <p:spPr>
          <a:xfrm>
            <a:off x="2209680" y="220968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6"/>
          <p:cNvSpPr/>
          <p:nvPr/>
        </p:nvSpPr>
        <p:spPr>
          <a:xfrm>
            <a:off x="3044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7"/>
          <p:cNvSpPr/>
          <p:nvPr/>
        </p:nvSpPr>
        <p:spPr>
          <a:xfrm>
            <a:off x="4572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8"/>
          <p:cNvSpPr/>
          <p:nvPr/>
        </p:nvSpPr>
        <p:spPr>
          <a:xfrm>
            <a:off x="12952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79"/>
          <p:cNvSpPr/>
          <p:nvPr/>
        </p:nvSpPr>
        <p:spPr>
          <a:xfrm>
            <a:off x="21337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0"/>
          <p:cNvSpPr/>
          <p:nvPr/>
        </p:nvSpPr>
        <p:spPr>
          <a:xfrm>
            <a:off x="29718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81"/>
          <p:cNvSpPr/>
          <p:nvPr/>
        </p:nvSpPr>
        <p:spPr>
          <a:xfrm>
            <a:off x="3505320" y="1981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82"/>
          <p:cNvSpPr/>
          <p:nvPr/>
        </p:nvSpPr>
        <p:spPr>
          <a:xfrm>
            <a:off x="2286000" y="25146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3"/>
          <p:cNvSpPr/>
          <p:nvPr/>
        </p:nvSpPr>
        <p:spPr>
          <a:xfrm flipH="1">
            <a:off x="1904760" y="2895480"/>
            <a:ext cx="39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84"/>
          <p:cNvSpPr/>
          <p:nvPr/>
        </p:nvSpPr>
        <p:spPr>
          <a:xfrm>
            <a:off x="3124080" y="198432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85"/>
          <p:cNvSpPr/>
          <p:nvPr/>
        </p:nvSpPr>
        <p:spPr>
          <a:xfrm flipH="1">
            <a:off x="2743200" y="236232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6"/>
          <p:cNvSpPr/>
          <p:nvPr/>
        </p:nvSpPr>
        <p:spPr>
          <a:xfrm>
            <a:off x="1447920" y="3048120"/>
            <a:ext cx="0" cy="39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7"/>
          <p:cNvSpPr/>
          <p:nvPr/>
        </p:nvSpPr>
        <p:spPr>
          <a:xfrm flipH="1">
            <a:off x="1066680" y="34290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8"/>
          <p:cNvSpPr/>
          <p:nvPr/>
        </p:nvSpPr>
        <p:spPr>
          <a:xfrm>
            <a:off x="2666880" y="2514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9"/>
          <p:cNvSpPr/>
          <p:nvPr/>
        </p:nvSpPr>
        <p:spPr>
          <a:xfrm>
            <a:off x="182880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9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91"/>
          <p:cNvSpPr/>
          <p:nvPr/>
        </p:nvSpPr>
        <p:spPr>
          <a:xfrm>
            <a:off x="609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2"/>
          <p:cNvSpPr/>
          <p:nvPr/>
        </p:nvSpPr>
        <p:spPr>
          <a:xfrm>
            <a:off x="3071880" y="164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3"/>
          <p:cNvSpPr/>
          <p:nvPr/>
        </p:nvSpPr>
        <p:spPr>
          <a:xfrm>
            <a:off x="7621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94"/>
          <p:cNvSpPr/>
          <p:nvPr/>
        </p:nvSpPr>
        <p:spPr>
          <a:xfrm>
            <a:off x="24382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95"/>
          <p:cNvSpPr/>
          <p:nvPr/>
        </p:nvSpPr>
        <p:spPr>
          <a:xfrm>
            <a:off x="160020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96"/>
          <p:cNvSpPr/>
          <p:nvPr/>
        </p:nvSpPr>
        <p:spPr>
          <a:xfrm>
            <a:off x="304920" y="3733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7"/>
          <p:cNvSpPr/>
          <p:nvPr/>
        </p:nvSpPr>
        <p:spPr>
          <a:xfrm>
            <a:off x="32767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8"/>
          <p:cNvSpPr/>
          <p:nvPr/>
        </p:nvSpPr>
        <p:spPr>
          <a:xfrm>
            <a:off x="2286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ple Carry Addition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99"/>
          <p:cNvSpPr/>
          <p:nvPr/>
        </p:nvSpPr>
        <p:spPr>
          <a:xfrm>
            <a:off x="2239920" y="2176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00"/>
          <p:cNvSpPr/>
          <p:nvPr/>
        </p:nvSpPr>
        <p:spPr>
          <a:xfrm>
            <a:off x="1407960" y="271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01"/>
          <p:cNvSpPr/>
          <p:nvPr/>
        </p:nvSpPr>
        <p:spPr>
          <a:xfrm>
            <a:off x="55728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2"/>
          <p:cNvSpPr/>
          <p:nvPr/>
        </p:nvSpPr>
        <p:spPr>
          <a:xfrm>
            <a:off x="4572000" y="56386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3"/>
          <p:cNvSpPr/>
          <p:nvPr/>
        </p:nvSpPr>
        <p:spPr>
          <a:xfrm>
            <a:off x="3962520" y="534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Calculation (not show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4"/>
          <p:cNvSpPr/>
          <p:nvPr/>
        </p:nvSpPr>
        <p:spPr>
          <a:xfrm>
            <a:off x="4952880" y="457200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Parallel Prefix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lo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5"/>
          <p:cNvSpPr/>
          <p:nvPr/>
        </p:nvSpPr>
        <p:spPr>
          <a:xfrm>
            <a:off x="3962520" y="14508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106"/>
          <p:cNvSpPr/>
          <p:nvPr/>
        </p:nvSpPr>
        <p:spPr>
          <a:xfrm flipH="1">
            <a:off x="3581280" y="18288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7"/>
          <p:cNvSpPr/>
          <p:nvPr/>
        </p:nvSpPr>
        <p:spPr>
          <a:xfrm>
            <a:off x="38098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10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6C5-4EDB-4C6E-B5F2-D553978DA5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Parallel Prefix Adder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466720" cy="1095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66720" cy="1381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2467080" cy="1724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9"/>
          <p:cNvSpPr/>
          <p:nvPr/>
        </p:nvSpPr>
        <p:spPr>
          <a:xfrm>
            <a:off x="142416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gge-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1447920" y="5229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-Car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1"/>
          <p:cNvSpPr/>
          <p:nvPr/>
        </p:nvSpPr>
        <p:spPr>
          <a:xfrm>
            <a:off x="5257800" y="30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t-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305-B4DD-4A6B-ACF0-FC94F9E4CD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1640" y="388620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logic depth (delay) for complexity (area and pow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x 2, fan-i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uperset Add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23960" cy="19526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4"/>
          <p:cNvSpPr/>
          <p:nvPr/>
        </p:nvSpPr>
        <p:spPr>
          <a:xfrm>
            <a:off x="114300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ull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2095560" cy="3467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04920" y="4571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controllability over prefix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ynopsys Overview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676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5"/>
          <p:cNvCxnSpPr>
            <a:stCxn id="666" idx="3"/>
          </p:cNvCxnSpPr>
          <p:nvPr/>
        </p:nvCxnSpPr>
        <p:spPr>
          <a:xfrm>
            <a:off x="2971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68" name="Rectangle 6"/>
          <p:cNvSpPr/>
          <p:nvPr/>
        </p:nvSpPr>
        <p:spPr>
          <a:xfrm>
            <a:off x="3962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248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d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8"/>
          <p:cNvCxnSpPr/>
          <p:nvPr/>
        </p:nvCxnSpPr>
        <p:spPr>
          <a:xfrm>
            <a:off x="5257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671" name="Straight Arrow Connector 9"/>
          <p:cNvCxnSpPr/>
          <p:nvPr/>
        </p:nvCxnSpPr>
        <p:spPr>
          <a:xfrm>
            <a:off x="6933960" y="2590560"/>
            <a:ext cx="1080" cy="5338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2" name="Rectangle 12"/>
          <p:cNvSpPr/>
          <p:nvPr/>
        </p:nvSpPr>
        <p:spPr>
          <a:xfrm>
            <a:off x="6248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VHDL in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Straight Arrow Connector 13"/>
          <p:cNvCxnSpPr>
            <a:endCxn id="674" idx="3"/>
          </p:cNvCxnSpPr>
          <p:nvPr/>
        </p:nvCxnSpPr>
        <p:spPr>
          <a:xfrm flipH="1">
            <a:off x="5257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4" name="Rectangle 16"/>
          <p:cNvSpPr/>
          <p:nvPr/>
        </p:nvSpPr>
        <p:spPr>
          <a:xfrm>
            <a:off x="3962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7"/>
          <p:cNvCxnSpPr/>
          <p:nvPr/>
        </p:nvCxnSpPr>
        <p:spPr>
          <a:xfrm flipH="1">
            <a:off x="2971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6" name="Rectangle 18"/>
          <p:cNvSpPr/>
          <p:nvPr/>
        </p:nvSpPr>
        <p:spPr>
          <a:xfrm>
            <a:off x="1676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to DC Synthetic Library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24C-6674-4B04-802E-ABD55DFEDF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Input and Synthesi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79" name="Picture 2" descr="C:\Users\Stevo Bailey\Downloads\mc.png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C:\Users\Stevo Bailey\Downloads\code.png"/>
          <p:cNvPicPr/>
          <p:nvPr/>
        </p:nvPicPr>
        <p:blipFill>
          <a:blip r:embed="rId2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8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ADA-4CD6-4720-B1BF-2280BD7E7A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Outpu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85" name="Picture 2" descr="C:\Users\Stevo Bailey\Downloads\results.png"/>
          <p:cNvPicPr/>
          <p:nvPr/>
        </p:nvPicPr>
        <p:blipFill>
          <a:blip r:embed="rId1"/>
          <a:stretch/>
        </p:blipFill>
        <p:spPr>
          <a:xfrm>
            <a:off x="380880" y="990720"/>
            <a:ext cx="4040280" cy="4647960"/>
          </a:xfrm>
          <a:prstGeom prst="rect">
            <a:avLst/>
          </a:prstGeom>
          <a:ln w="0">
            <a:noFill/>
          </a:ln>
        </p:spPr>
      </p:pic>
      <p:sp>
        <p:nvSpPr>
          <p:cNvPr id="686" name="Oval 6"/>
          <p:cNvSpPr/>
          <p:nvPr/>
        </p:nvSpPr>
        <p:spPr>
          <a:xfrm>
            <a:off x="1447920" y="2819520"/>
            <a:ext cx="8380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Stevo Bailey\Downloads\vhdl.png"/>
          <p:cNvPicPr/>
          <p:nvPr/>
        </p:nvPicPr>
        <p:blipFill>
          <a:blip r:embed="rId2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10"/>
          <p:cNvSpPr/>
          <p:nvPr/>
        </p:nvSpPr>
        <p:spPr>
          <a:xfrm flipV="1">
            <a:off x="1866960" y="990720"/>
            <a:ext cx="28573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1"/>
          <p:cNvSpPr/>
          <p:nvPr/>
        </p:nvSpPr>
        <p:spPr>
          <a:xfrm>
            <a:off x="1905120" y="3429000"/>
            <a:ext cx="281916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4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495-6CED-4FF8-8C3A-CD67143E36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Stevo Bailey\Downloads\rpv_man.png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4323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Relative Placemen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lacement View (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7FB-8363-47F6-9D4D-4A4208DFFE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41:00Z</dcterms:created>
  <dc:creator>Mehdi Kabir</dc:creator>
  <dc:description/>
  <dc:language>en-US</dc:language>
  <cp:lastModifiedBy>Stevo Bailey</cp:lastModifiedBy>
  <dcterms:modified xsi:type="dcterms:W3CDTF">2012-05-09T00:44:2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11033</vt:lpwstr>
  </property>
</Properties>
</file>